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2.jpeg" ContentType="image/jpeg"/>
  <Override PartName="/ppt/media/image6.png" ContentType="image/png"/>
  <Override PartName="/ppt/media/image20.png" ContentType="image/png"/>
  <Override PartName="/ppt/media/chimes.wav" ContentType="audio/x-wav"/>
  <Override PartName="/ppt/media/image18.wmf" ContentType="image/x-wmf"/>
  <Override PartName="/ppt/media/image3.jpeg" ContentType="image/jpeg"/>
  <Override PartName="/ppt/media/image19.png" ContentType="image/png"/>
  <Override PartName="/ppt/media/image21.png" ContentType="image/png"/>
  <Override PartName="/ppt/media/image16.gif" ContentType="image/gif"/>
  <Override PartName="/ppt/media/image15.jpeg" ContentType="image/jpeg"/>
  <Override PartName="/ppt/media/image13.wmf" ContentType="image/x-wmf"/>
  <Override PartName="/ppt/media/image5.png" ContentType="image/png"/>
  <Override PartName="/ppt/media/image10.png" ContentType="image/png"/>
  <Override PartName="/ppt/media/image2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9:11:35.778000000" idx="1">
    <p:pos x="1479" y="628"/>
    <p:text/>
  </p:cm>
</p:cmLst>
</file>

<file path=ppt/comments/comment16.xml><?xml version="1.0" encoding="utf-8"?>
<p:cmLst xmlns:p="http://schemas.openxmlformats.org/presentationml/2006/main">
  <p:cm authorId="0" dt="2016-08-19T19:11:43.419000000" idx="2">
    <p:pos x="4941" y="64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E6F2-651E-4E77-A7C9-7D9F1D418B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DCB8-B3E7-49B5-823C-A3E16ABA1F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小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2951280" y="3297240"/>
            <a:ext cx="5797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843280" y="25052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数点位置变化（二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2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1908000" y="2637000"/>
            <a:ext cx="59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÷10=46.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÷100=4.6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÷1000=0.46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锦鸡蛋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鹃蛋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6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蜂鸟蛋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46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31" name="矩形 20"/>
          <p:cNvSpPr/>
          <p:nvPr/>
        </p:nvSpPr>
        <p:spPr>
          <a:xfrm>
            <a:off x="971640" y="2924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是乙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正好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1187280" y="2924280"/>
            <a:ext cx="705672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“甲数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正好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甲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因为“甲数是乙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4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3059280" y="325116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7×100=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÷10=0.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0"/>
          <p:cNvSpPr/>
          <p:nvPr/>
        </p:nvSpPr>
        <p:spPr>
          <a:xfrm>
            <a:off x="1695600" y="180036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72280" y="75888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 rot="18297600">
            <a:off x="6960960" y="3363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449280" y="4554360"/>
            <a:ext cx="2120760" cy="16480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4346640" y="181944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4029120" y="234144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755640" y="1701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1187280" y="2486160"/>
            <a:ext cx="679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小数位数不足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足。产生这种错误的原因是没有掌握小数点的移动方法。复名数化成单名数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位相同的数字写在整数部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位不同的数字除以两个单位之间的进率写在小数部分。当小数位数不足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把两个结果合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6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5"/>
          <p:cNvSpPr/>
          <p:nvPr/>
        </p:nvSpPr>
        <p:spPr>
          <a:xfrm rot="18297600">
            <a:off x="6097320" y="4929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0"/>
          <p:cNvSpPr/>
          <p:nvPr/>
        </p:nvSpPr>
        <p:spPr>
          <a:xfrm rot="18297600">
            <a:off x="6673680" y="2265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对象 21" descr=""/>
          <p:cNvPicPr/>
          <p:nvPr/>
        </p:nvPicPr>
        <p:blipFill>
          <a:blip r:embed="rId2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矩形 16"/>
          <p:cNvSpPr/>
          <p:nvPr/>
        </p:nvSpPr>
        <p:spPr>
          <a:xfrm>
            <a:off x="1695600" y="180036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4"/>
          <p:cNvSpPr/>
          <p:nvPr/>
        </p:nvSpPr>
        <p:spPr>
          <a:xfrm>
            <a:off x="4346640" y="181944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4029120" y="2341440"/>
            <a:ext cx="7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6"/>
          <p:cNvSpPr/>
          <p:nvPr/>
        </p:nvSpPr>
        <p:spPr>
          <a:xfrm>
            <a:off x="1647720" y="362592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4152960" y="3645000"/>
            <a:ext cx="9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.0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8"/>
          <p:cNvSpPr/>
          <p:nvPr/>
        </p:nvSpPr>
        <p:spPr>
          <a:xfrm>
            <a:off x="3981600" y="4167360"/>
            <a:ext cx="95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0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1281240" y="1592280"/>
            <a:ext cx="68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下面的数与</a:t>
            </a:r>
            <a:r>
              <a:rPr b="0" lang="en-US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0.285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比较，扩大到原来的几倍或缩小到原来的几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285840" y="3452760"/>
            <a:ext cx="1800000" cy="1747800"/>
            <a:chOff x="285840" y="3452760"/>
            <a:chExt cx="1800000" cy="1747800"/>
          </a:xfrm>
        </p:grpSpPr>
        <p:pic>
          <p:nvPicPr>
            <p:cNvPr id="181" name="Picture 8" descr="__scale__1_393606094"/>
            <p:cNvPicPr/>
            <p:nvPr/>
          </p:nvPicPr>
          <p:blipFill>
            <a:blip r:embed="rId1"/>
            <a:stretch/>
          </p:blipFill>
          <p:spPr>
            <a:xfrm>
              <a:off x="28584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9"/>
            <p:cNvSpPr/>
            <p:nvPr/>
          </p:nvSpPr>
          <p:spPr>
            <a:xfrm>
              <a:off x="717480" y="3941640"/>
              <a:ext cx="115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.8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0"/>
          <p:cNvGrpSpPr/>
          <p:nvPr/>
        </p:nvGrpSpPr>
        <p:grpSpPr>
          <a:xfrm>
            <a:off x="2085840" y="3452760"/>
            <a:ext cx="1800000" cy="1747800"/>
            <a:chOff x="2085840" y="3452760"/>
            <a:chExt cx="1800000" cy="1747800"/>
          </a:xfrm>
        </p:grpSpPr>
        <p:pic>
          <p:nvPicPr>
            <p:cNvPr id="184" name="Picture 11" descr="__scale__1_393606094"/>
            <p:cNvPicPr/>
            <p:nvPr/>
          </p:nvPicPr>
          <p:blipFill>
            <a:blip r:embed="rId2"/>
            <a:stretch/>
          </p:blipFill>
          <p:spPr>
            <a:xfrm>
              <a:off x="208584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2"/>
            <p:cNvSpPr/>
            <p:nvPr/>
          </p:nvSpPr>
          <p:spPr>
            <a:xfrm>
              <a:off x="2517480" y="3922560"/>
              <a:ext cx="11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5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7343640" y="3433680"/>
            <a:ext cx="1908000" cy="1747800"/>
            <a:chOff x="7343640" y="3433680"/>
            <a:chExt cx="1908000" cy="1747800"/>
          </a:xfrm>
        </p:grpSpPr>
        <p:pic>
          <p:nvPicPr>
            <p:cNvPr id="187" name="Picture 14" descr="__scale__1_393606094"/>
            <p:cNvPicPr/>
            <p:nvPr/>
          </p:nvPicPr>
          <p:blipFill>
            <a:blip r:embed="rId3"/>
            <a:stretch/>
          </p:blipFill>
          <p:spPr>
            <a:xfrm>
              <a:off x="7343640" y="3433680"/>
              <a:ext cx="18003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5"/>
            <p:cNvSpPr/>
            <p:nvPr/>
          </p:nvSpPr>
          <p:spPr>
            <a:xfrm>
              <a:off x="7488000" y="3919680"/>
              <a:ext cx="17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.0028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16"/>
          <p:cNvGrpSpPr/>
          <p:nvPr/>
        </p:nvGrpSpPr>
        <p:grpSpPr>
          <a:xfrm>
            <a:off x="5543640" y="3452760"/>
            <a:ext cx="1800000" cy="1747800"/>
            <a:chOff x="5543640" y="3452760"/>
            <a:chExt cx="1800000" cy="1747800"/>
          </a:xfrm>
        </p:grpSpPr>
        <p:pic>
          <p:nvPicPr>
            <p:cNvPr id="190" name="Picture 17" descr="__scale__1_393606094"/>
            <p:cNvPicPr/>
            <p:nvPr/>
          </p:nvPicPr>
          <p:blipFill>
            <a:blip r:embed="rId4"/>
            <a:stretch/>
          </p:blipFill>
          <p:spPr>
            <a:xfrm>
              <a:off x="554364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8"/>
            <p:cNvSpPr/>
            <p:nvPr/>
          </p:nvSpPr>
          <p:spPr>
            <a:xfrm>
              <a:off x="5778360" y="3903480"/>
              <a:ext cx="15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.028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19"/>
          <p:cNvGrpSpPr/>
          <p:nvPr/>
        </p:nvGrpSpPr>
        <p:grpSpPr>
          <a:xfrm>
            <a:off x="3814920" y="3452760"/>
            <a:ext cx="1800000" cy="1747800"/>
            <a:chOff x="3814920" y="3452760"/>
            <a:chExt cx="1800000" cy="1747800"/>
          </a:xfrm>
        </p:grpSpPr>
        <p:pic>
          <p:nvPicPr>
            <p:cNvPr id="193" name="Picture 20" descr="__scale__1_393606094"/>
            <p:cNvPicPr/>
            <p:nvPr/>
          </p:nvPicPr>
          <p:blipFill>
            <a:blip r:embed="rId5"/>
            <a:stretch/>
          </p:blipFill>
          <p:spPr>
            <a:xfrm>
              <a:off x="3814920" y="3452760"/>
              <a:ext cx="180000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1"/>
            <p:cNvSpPr/>
            <p:nvPr/>
          </p:nvSpPr>
          <p:spPr>
            <a:xfrm>
              <a:off x="4282920" y="38653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.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 Box 22"/>
          <p:cNvSpPr/>
          <p:nvPr/>
        </p:nvSpPr>
        <p:spPr>
          <a:xfrm>
            <a:off x="595440" y="2535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0" y="5307120"/>
            <a:ext cx="165564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1763640" y="5307120"/>
            <a:ext cx="201636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3851280" y="5307120"/>
            <a:ext cx="17985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5815080" y="5214960"/>
            <a:ext cx="1519200" cy="1008000"/>
            <a:chOff x="5815080" y="5214960"/>
            <a:chExt cx="1519200" cy="1008000"/>
          </a:xfrm>
        </p:grpSpPr>
        <p:sp>
          <p:nvSpPr>
            <p:cNvPr id="200" name="Rectangle 3"/>
            <p:cNvSpPr/>
            <p:nvPr/>
          </p:nvSpPr>
          <p:spPr>
            <a:xfrm>
              <a:off x="5815080" y="5214960"/>
              <a:ext cx="1519200" cy="96984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5935320" y="5322600"/>
              <a:ext cx="110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缩小到原来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Object 29" descr=""/>
            <p:cNvPicPr/>
            <p:nvPr/>
          </p:nvPicPr>
          <p:blipFill>
            <a:blip r:embed="rId6"/>
            <a:stretch/>
          </p:blipFill>
          <p:spPr>
            <a:xfrm>
              <a:off x="6403680" y="5430240"/>
              <a:ext cx="647280" cy="79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组合 2"/>
          <p:cNvGrpSpPr/>
          <p:nvPr/>
        </p:nvGrpSpPr>
        <p:grpSpPr>
          <a:xfrm>
            <a:off x="7423200" y="5219640"/>
            <a:ext cx="1439640" cy="1028880"/>
            <a:chOff x="7423200" y="5219640"/>
            <a:chExt cx="1439640" cy="1028880"/>
          </a:xfrm>
        </p:grpSpPr>
        <p:sp>
          <p:nvSpPr>
            <p:cNvPr id="204" name="Rectangle 2"/>
            <p:cNvSpPr/>
            <p:nvPr/>
          </p:nvSpPr>
          <p:spPr>
            <a:xfrm>
              <a:off x="7423200" y="5219640"/>
              <a:ext cx="1439640" cy="96480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26"/>
            <p:cNvSpPr/>
            <p:nvPr/>
          </p:nvSpPr>
          <p:spPr>
            <a:xfrm>
              <a:off x="7423200" y="5219640"/>
              <a:ext cx="11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缩小到来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6" name="Object 28" descr=""/>
            <p:cNvPicPr/>
            <p:nvPr/>
          </p:nvPicPr>
          <p:blipFill>
            <a:blip r:embed="rId7"/>
            <a:stretch/>
          </p:blipFill>
          <p:spPr>
            <a:xfrm>
              <a:off x="7733160" y="5483160"/>
              <a:ext cx="67932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同侧圆角矩形 36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116 L 0.19271 0.00231 E">
                                      <p:cBhvr>
                                        <p:cTn id="349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8 -2.93574E-006 L 0.37379 0.00116 E">
                                      <p:cBhvr>
                                        <p:cTn id="35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378 0.00116 L 0.57066 0.00116 E">
                                      <p:cBhvr>
                                        <p:cTn id="367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066 0.00116 L 0.75973 0.00116 E">
                                      <p:cBhvr>
                                        <p:cTn id="37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8"/>
          <p:cNvSpPr/>
          <p:nvPr/>
        </p:nvSpPr>
        <p:spPr>
          <a:xfrm>
            <a:off x="700200" y="3340080"/>
            <a:ext cx="302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.5÷1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516560" y="2044800"/>
            <a:ext cx="302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1.2÷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573440" y="4853160"/>
            <a:ext cx="262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÷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77880" y="4853160"/>
            <a:ext cx="286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×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4516560" y="3340080"/>
            <a:ext cx="3179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84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700200" y="2044800"/>
            <a:ext cx="3020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9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3179880" y="2044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3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179880" y="3340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1.8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205080" y="4853160"/>
            <a:ext cx="15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6649920" y="20448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0.7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7162920" y="328464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6810480" y="48531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0.02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同侧圆角矩形 13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6697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同学们找一找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3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关系，并用算式表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577600" y="2852640"/>
            <a:ext cx="354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①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8×10=38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②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8÷10=3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③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038×100=3.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④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8÷100=0.0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⑤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038×1000=3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⑥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38÷1000=0.0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同侧圆角矩形 5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719280" y="2879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规律口算小数除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小数点向左移动引起小数大小变化的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755640" y="39495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较小单位的数或复名数改写成用小数表示的单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90560" y="1484280"/>
            <a:ext cx="5505480" cy="4448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231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9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 Box 12"/>
          <p:cNvSpPr/>
          <p:nvPr/>
        </p:nvSpPr>
        <p:spPr>
          <a:xfrm>
            <a:off x="4895640" y="1744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211360" y="2565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340960" y="33559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274000" y="414324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5284440" y="4869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83000" y="5587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02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同侧圆角矩形 18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"/>
          <p:cNvSpPr/>
          <p:nvPr/>
        </p:nvSpPr>
        <p:spPr>
          <a:xfrm>
            <a:off x="1395360" y="186840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圈里的数同圈上的数比较，有什么变化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400040" y="357660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1687680" y="388476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836080" y="38638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259720" y="43178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2120760" y="343224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16"/>
          <p:cNvSpPr/>
          <p:nvPr/>
        </p:nvSpPr>
        <p:spPr>
          <a:xfrm>
            <a:off x="4856040" y="350352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140080" y="3811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6292080" y="37908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715720" y="42451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5576760" y="335916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同侧圆角矩形 1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57280" y="43340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978200" y="50133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3243240" y="426888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343400" y="42451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缩小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635880" y="42688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缩小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570640" y="48369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缩小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2714760" y="99360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缩小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000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倍改作千分之一，全书统一，以下不在标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64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AutoShape 27"/>
          <p:cNvSpPr/>
          <p:nvPr/>
        </p:nvSpPr>
        <p:spPr>
          <a:xfrm>
            <a:off x="6012000" y="1413000"/>
            <a:ext cx="2627280" cy="1368360"/>
          </a:xfrm>
          <a:prstGeom prst="wedgeRoundRectCallout">
            <a:avLst>
              <a:gd name="adj1" fmla="val -70472"/>
              <a:gd name="adj2" fmla="val -1000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数点移动时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位数不够要用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补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68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矩形 21" descr=""/>
          <p:cNvPicPr/>
          <p:nvPr/>
        </p:nvPicPr>
        <p:blipFill>
          <a:blip r:embed="rId3"/>
          <a:stretch/>
        </p:blipFill>
        <p:spPr>
          <a:xfrm>
            <a:off x="414360" y="3236760"/>
            <a:ext cx="8083440" cy="2170440"/>
          </a:xfrm>
          <a:prstGeom prst="rect">
            <a:avLst/>
          </a:prstGeom>
          <a:ln w="0">
            <a:noFill/>
          </a:ln>
        </p:spPr>
      </p:pic>
      <p:sp>
        <p:nvSpPr>
          <p:cNvPr id="271" name="矩形 13"/>
          <p:cNvSpPr/>
          <p:nvPr/>
        </p:nvSpPr>
        <p:spPr>
          <a:xfrm>
            <a:off x="612720" y="5516640"/>
            <a:ext cx="7777080" cy="459720"/>
          </a:xfrm>
          <a:prstGeom prst="rect">
            <a:avLst/>
          </a:prstGeom>
          <a:solidFill>
            <a:srgbClr val="00b0f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低级单位的数化高级单位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低级单位前面的数除以进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89200" y="23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71640" y="1325520"/>
            <a:ext cx="7238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填空。 </a:t>
            </a: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分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0.007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扩大到原数的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倍得（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6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缩小到原数的十分之一是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17320" y="1800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17960" y="27907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680280" y="3781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811120" y="477216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03280" y="57625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同侧圆角矩形 8"/>
          <p:cNvSpPr/>
          <p:nvPr/>
        </p:nvSpPr>
        <p:spPr>
          <a:xfrm>
            <a:off x="452520" y="8082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84200" y="1450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6372360" y="1555920"/>
            <a:ext cx="18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页的内容与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2.1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讲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4f81bd"/>
                </a:solidFill>
                <a:latin typeface="Calibri"/>
              </a:rPr>
              <a:t>6</a:t>
            </a:r>
            <a:r>
              <a:rPr b="0" lang="zh-CN" sz="1800" spc="-1" strike="noStrike">
                <a:solidFill>
                  <a:srgbClr val="4f81bd"/>
                </a:solidFill>
                <a:latin typeface="Calibri"/>
              </a:rPr>
              <a:t>页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332000" y="1641600"/>
            <a:ext cx="693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较大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0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.26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.19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1.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9920" y="2492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292640" y="330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575240" y="4149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531320" y="4978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同侧圆角矩形 6"/>
          <p:cNvSpPr/>
          <p:nvPr/>
        </p:nvSpPr>
        <p:spPr>
          <a:xfrm>
            <a:off x="442800" y="846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74840" y="1488960"/>
            <a:ext cx="207144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84360" y="1700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长的彩带平均分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份各是多少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1"/>
          <p:cNvGrpSpPr/>
          <p:nvPr/>
        </p:nvGrpSpPr>
        <p:grpSpPr>
          <a:xfrm>
            <a:off x="3672000" y="765000"/>
            <a:ext cx="5112720" cy="1579680"/>
            <a:chOff x="3672000" y="765000"/>
            <a:chExt cx="5112720" cy="1579680"/>
          </a:xfrm>
        </p:grpSpPr>
        <p:pic>
          <p:nvPicPr>
            <p:cNvPr id="78" name="Picture 3" descr="F:\七彩课堂插图板式封面\排版用图标、页眉页脚\标题图（终-排版用）共29个\预习指导.jpg"/>
            <p:cNvPicPr/>
            <p:nvPr/>
          </p:nvPicPr>
          <p:blipFill>
            <a:blip r:embed="rId1"/>
            <a:srcRect l="0" t="0" r="31433" b="0"/>
            <a:stretch/>
          </p:blipFill>
          <p:spPr>
            <a:xfrm flipH="1">
              <a:off x="7056360" y="76500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圆角矩形标注 7"/>
            <p:cNvSpPr/>
            <p:nvPr/>
          </p:nvSpPr>
          <p:spPr>
            <a:xfrm>
              <a:off x="3672000" y="981000"/>
              <a:ext cx="295272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算式表示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32040" y="3144960"/>
            <a:ext cx="2277720" cy="1612800"/>
          </a:xfrm>
          <a:prstGeom prst="rect">
            <a:avLst/>
          </a:prstGeom>
          <a:ln w="0">
            <a:noFill/>
          </a:ln>
        </p:spPr>
      </p:pic>
      <p:sp>
        <p:nvSpPr>
          <p:cNvPr id="81" name="矩形 13"/>
          <p:cNvSpPr/>
          <p:nvPr/>
        </p:nvSpPr>
        <p:spPr>
          <a:xfrm>
            <a:off x="3424320" y="2997360"/>
            <a:ext cx="400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÷10=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3421080" y="418140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÷100=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3386160" y="530064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5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÷1000=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0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5"/>
          <p:cNvGrpSpPr/>
          <p:nvPr/>
        </p:nvGrpSpPr>
        <p:grpSpPr>
          <a:xfrm>
            <a:off x="250920" y="2687760"/>
            <a:ext cx="4616280" cy="1800000"/>
            <a:chOff x="250920" y="2687760"/>
            <a:chExt cx="4616280" cy="1800000"/>
          </a:xfrm>
        </p:grpSpPr>
        <p:pic>
          <p:nvPicPr>
            <p:cNvPr id="88" name="Picture 69" descr="80"/>
            <p:cNvPicPr/>
            <p:nvPr/>
          </p:nvPicPr>
          <p:blipFill>
            <a:blip r:embed="rId1"/>
            <a:stretch/>
          </p:blipFill>
          <p:spPr>
            <a:xfrm>
              <a:off x="250920" y="2687760"/>
              <a:ext cx="1594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27"/>
            <p:cNvSpPr/>
            <p:nvPr/>
          </p:nvSpPr>
          <p:spPr>
            <a:xfrm>
              <a:off x="2339280" y="3210840"/>
              <a:ext cx="2527920" cy="615240"/>
            </a:xfrm>
            <a:prstGeom prst="wedgeRoundRectCallout">
              <a:avLst>
                <a:gd name="adj1" fmla="val -61893"/>
                <a:gd name="adj2" fmla="val -16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你发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"/>
          <p:cNvGrpSpPr/>
          <p:nvPr/>
        </p:nvGrpSpPr>
        <p:grpSpPr>
          <a:xfrm>
            <a:off x="3995640" y="836640"/>
            <a:ext cx="4320720" cy="1579680"/>
            <a:chOff x="3995640" y="836640"/>
            <a:chExt cx="4320720" cy="1579680"/>
          </a:xfrm>
        </p:grpSpPr>
        <p:pic>
          <p:nvPicPr>
            <p:cNvPr id="91" name="Picture 3" descr="F:\七彩课堂插图板式封面\排版用图标、页眉页脚\标题图（终-排版用）共29个\预习指导.jpg"/>
            <p:cNvPicPr/>
            <p:nvPr/>
          </p:nvPicPr>
          <p:blipFill>
            <a:blip r:embed="rId2"/>
            <a:srcRect l="0" t="0" r="31433" b="0"/>
            <a:stretch/>
          </p:blipFill>
          <p:spPr>
            <a:xfrm flipH="1">
              <a:off x="6588000" y="83664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圆角矩形标注 25"/>
            <p:cNvSpPr/>
            <p:nvPr/>
          </p:nvSpPr>
          <p:spPr>
            <a:xfrm>
              <a:off x="3995640" y="980640"/>
              <a:ext cx="2232720" cy="516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可以这样写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19"/>
          <p:cNvSpPr/>
          <p:nvPr/>
        </p:nvSpPr>
        <p:spPr>
          <a:xfrm>
            <a:off x="2730600" y="165420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10=0.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2730600" y="21574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100=0.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2714760" y="2687760"/>
            <a:ext cx="34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÷1000=0.0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矩形 26" descr=""/>
          <p:cNvPicPr/>
          <p:nvPr/>
        </p:nvPicPr>
        <p:blipFill>
          <a:blip r:embed="rId3"/>
          <a:stretch/>
        </p:blipFill>
        <p:spPr>
          <a:xfrm>
            <a:off x="1163520" y="4260960"/>
            <a:ext cx="7510680" cy="21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68440" y="2849400"/>
            <a:ext cx="3798720" cy="212436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712800" y="1959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梅花鹿的身高改写成以米为单位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"/>
          <p:cNvGrpSpPr/>
          <p:nvPr/>
        </p:nvGrpSpPr>
        <p:grpSpPr>
          <a:xfrm>
            <a:off x="3755880" y="765000"/>
            <a:ext cx="5113080" cy="1579680"/>
            <a:chOff x="3755880" y="765000"/>
            <a:chExt cx="5113080" cy="1579680"/>
          </a:xfrm>
        </p:grpSpPr>
        <p:pic>
          <p:nvPicPr>
            <p:cNvPr id="102" name="Picture 3" descr="F:\七彩课堂插图板式封面\排版用图标、页眉页脚\标题图（终-排版用）共29个\预习指导.jpg"/>
            <p:cNvPicPr/>
            <p:nvPr/>
          </p:nvPicPr>
          <p:blipFill>
            <a:blip r:embed="rId2"/>
            <a:srcRect l="0" t="0" r="31433" b="0"/>
            <a:stretch/>
          </p:blipFill>
          <p:spPr>
            <a:xfrm flipH="1">
              <a:off x="7140600" y="76500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圆角矩形标注 7"/>
            <p:cNvSpPr/>
            <p:nvPr/>
          </p:nvSpPr>
          <p:spPr>
            <a:xfrm>
              <a:off x="3755880" y="981000"/>
              <a:ext cx="295272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你是怎样做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11"/>
          <p:cNvSpPr/>
          <p:nvPr/>
        </p:nvSpPr>
        <p:spPr>
          <a:xfrm>
            <a:off x="4562640" y="40464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5÷100=0.8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矩形 13" descr=""/>
          <p:cNvPicPr/>
          <p:nvPr/>
        </p:nvPicPr>
        <p:blipFill>
          <a:blip r:embed="rId3"/>
          <a:stretch/>
        </p:blipFill>
        <p:spPr>
          <a:xfrm>
            <a:off x="4432320" y="3067200"/>
            <a:ext cx="4290840" cy="798480"/>
          </a:xfrm>
          <a:prstGeom prst="rect">
            <a:avLst/>
          </a:prstGeom>
          <a:ln w="0">
            <a:noFill/>
          </a:ln>
        </p:spPr>
      </p:pic>
      <p:grpSp>
        <p:nvGrpSpPr>
          <p:cNvPr id="106" name="组合 2"/>
          <p:cNvGrpSpPr/>
          <p:nvPr/>
        </p:nvGrpSpPr>
        <p:grpSpPr>
          <a:xfrm>
            <a:off x="1774800" y="4973760"/>
            <a:ext cx="6190920" cy="1800000"/>
            <a:chOff x="1774800" y="4973760"/>
            <a:chExt cx="6190920" cy="1800000"/>
          </a:xfrm>
        </p:grpSpPr>
        <p:sp>
          <p:nvSpPr>
            <p:cNvPr id="107" name="圆角矩形标注 14"/>
            <p:cNvSpPr/>
            <p:nvPr/>
          </p:nvSpPr>
          <p:spPr>
            <a:xfrm>
              <a:off x="1774800" y="5085360"/>
              <a:ext cx="3881880" cy="1249560"/>
            </a:xfrm>
            <a:prstGeom prst="wedgeRoundRectCallout">
              <a:avLst>
                <a:gd name="adj1" fmla="val 81888"/>
                <a:gd name="adj2" fmla="val -3712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低级单位的数化高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单位的数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用低级单位前面的数除以进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" name="Picture 35" descr="42"/>
            <p:cNvPicPr/>
            <p:nvPr/>
          </p:nvPicPr>
          <p:blipFill>
            <a:blip r:embed="rId4"/>
            <a:stretch/>
          </p:blipFill>
          <p:spPr>
            <a:xfrm flipH="1">
              <a:off x="6165360" y="497376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12" name="矩形 20"/>
          <p:cNvSpPr/>
          <p:nvPr/>
        </p:nvSpPr>
        <p:spPr>
          <a:xfrm>
            <a:off x="971640" y="2637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几维鸟蛋的质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锦鸡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杜鹃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蜂鸟蛋的质量。锦鸡蛋、杜鹃蛋、蜂鸟蛋各有多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187280" y="2924280"/>
            <a:ext cx="7056720" cy="13737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几维鸟蛋的质量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锦鸡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杜鹃蛋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蜂鸟蛋的质量。要求锦鸡蛋、杜鹃蛋、蜂鸟蛋各有多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除法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9:16:00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11:56Z</dcterms:modified>
  <cp:revision>340</cp:revision>
  <dc:subject>www.xkb1.com</dc:subject>
  <dc:title>www.xkb1.com</dc:title>
</cp:coreProperties>
</file>